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366A-C1BD-4076-B40B-24700E437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4E24-B776-48DB-BE19-C8E73F37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2D2B-83DD-4F26-83E0-0CF1BD830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056D-193A-4138-BFAC-331E14280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F618-6B63-4550-AEDC-6367B7C6A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9A28-358B-4935-A82D-5982CA20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E3C8-F05E-453F-9D1B-EEE6F0C4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7658-50BA-449B-9D9A-4F81229B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4702-B5AD-47BC-B1BE-6567E4BB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7BE2-363E-491F-B242-B7C6129D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7543-3AEA-4062-9926-DE0166ED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C8D1-784D-4F9C-8007-B11E01A9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F514-86F9-47CA-95BA-8C5DB0D5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5564-C0B4-4956-95E5-420D8350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42B6-6320-45AB-8A5C-DE36E07C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4223-3573-4A7C-8B50-F71C058B8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B02C-0BBF-4D55-B641-6DEBFFA8D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D64B-A21E-4E16-A608-DEC98350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1315-5F6F-484C-AC4C-AF99D3DE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C28A-0ED4-47A5-8F0D-9460BDBE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07E7-D01B-466C-98C1-F1E3BE11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5FCA-5B25-48B6-814D-C8298538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8348-2786-4E99-9601-9A2FD751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CF13-E33F-4C60-81E3-FEF830AA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6F54-6AFD-4B3A-9889-B99DF35D43EC}" type="slidenum">
              <a:rPr b="0" lang="fi-FI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4733-586F-4FD0-9CDF-A6392D6A41C1}" type="slidenum">
              <a:rPr b="0" lang="fi-FI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857160" y="213840"/>
            <a:ext cx="5329440" cy="18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100" spc="-1" strike="noStrike">
                <a:solidFill>
                  <a:srgbClr val="000000"/>
                </a:solidFill>
                <a:latin typeface="Book Antiqua"/>
              </a:rPr>
              <a:t>KÄSIKIRJOITUS MULTIMEDIATUOTANNON SUUNNITTELUN JA TOTEUTTAMISEN VÄLINEENÄ 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Book Antiqua"/>
              </a:rPr>
              <a:t>Mihin käsikirjoitusta tarvitaan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Book Antiqua"/>
              </a:rPr>
              <a:t>Mitä vaiheita käsikirjoittamisessa on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tsikko 1" descr=""/>
          <p:cNvPicPr/>
          <p:nvPr/>
        </p:nvPicPr>
        <p:blipFill>
          <a:blip r:embed="rId1"/>
          <a:stretch/>
        </p:blipFill>
        <p:spPr>
          <a:xfrm>
            <a:off x="281160" y="274680"/>
            <a:ext cx="8673840" cy="1268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Mitä multimediaesitys pitää sisällään?</a:t>
            </a:r>
            <a:br>
              <a:rPr sz="2800"/>
            </a:b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 </a:t>
            </a:r>
            <a:br>
              <a:rPr sz="2800"/>
            </a:b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Kuvaa, ääntä, videokuvaa, animaatiota, tekstiä, efektejä. (Vähintään kolmea näistä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Kustannusarvio, tuotantoaikataulu.</a:t>
            </a:r>
            <a:br>
              <a:rPr sz="2800"/>
            </a:b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Multimediatuotteiden ylläpito yrityksessä.</a:t>
            </a:r>
            <a:br>
              <a:rPr sz="2800"/>
            </a:b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Tuotantoprosessin dokumentointi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Lopputuotteen esteettisyys ja viihtyisyy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tsikk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http://mediakompassi.yle.fi/4-6-luokkalaiset/kuvakoulu/kuvan-lumo/kuvakoo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8 eri kuvakokoa, opettele lyhentee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Kuvakäsikirjoitus tehdään kuvakokojen mukaa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Katso seuraavista tehtävistä käytetyt kuvakoot ja siirtymä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tsikk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Book Antiqua"/>
              </a:rPr>
              <a:t>Analysoi jokin videonpätkä ja mieti, mitä käsikirjoitusvaiheita siinä oli. Mieti myös kuvakulmia (esim. http://muuttokurki.weebly.com/esittelyvideo.html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Book Antiqua"/>
              </a:rPr>
              <a:t>Tee pieni käsikirjoitus (kuvallinen, storyboard ja kirjallinen) kuvitteellista projektia varten (tv-mainos elintarvikkeesta). Esimerkki http://www.youtube.com/watch?v=wvzZtNh7Ag4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Book Antiqua"/>
              </a:rPr>
              <a:t>Mietitään yhdessä lomakkeet, joita tarvitaan käsikirjoittamiseen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56760" y="642600"/>
            <a:ext cx="2514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ell MT"/>
              </a:rPr>
              <a:t>Brief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-227160" y="1500120"/>
            <a:ext cx="8871840" cy="38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Bell MT"/>
              </a:rPr>
              <a:t>Tilaajan päätehtävä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Bell MT"/>
              </a:rPr>
              <a:t> </a:t>
            </a:r>
            <a:r>
              <a:rPr b="0" lang="fi-FI" sz="2400" spc="-1" strike="noStrike">
                <a:solidFill>
                  <a:srgbClr val="ffffff"/>
                </a:solidFill>
                <a:latin typeface="Bell MT"/>
              </a:rPr>
              <a:t>kertoo projektin lähtökohdat (briiffaa kirjoittaja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Bell MT"/>
              </a:rPr>
              <a:t> </a:t>
            </a:r>
            <a:r>
              <a:rPr b="0" lang="fi-FI" sz="2400" spc="-1" strike="noStrike">
                <a:solidFill>
                  <a:srgbClr val="ffffff"/>
                </a:solidFill>
                <a:latin typeface="Bell MT"/>
              </a:rPr>
              <a:t>toimii lisäinformaation lähteen kirjoittamisprosessin aik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Bell MT"/>
              </a:rPr>
              <a:t> </a:t>
            </a:r>
            <a:r>
              <a:rPr b="0" lang="fi-FI" sz="2400" spc="-1" strike="noStrike">
                <a:solidFill>
                  <a:srgbClr val="ffffff"/>
                </a:solidFill>
                <a:latin typeface="Bell MT"/>
              </a:rPr>
              <a:t>hyväksyy lopullisen käsikirjoituksen ennen kuvausten alku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Bell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Bell MT"/>
              </a:rPr>
              <a:t>ohjelman tavoi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Bell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Bell MT"/>
              </a:rPr>
              <a:t> </a:t>
            </a:r>
            <a:r>
              <a:rPr b="0" lang="fi-FI" sz="2400" spc="-1" strike="noStrike">
                <a:solidFill>
                  <a:srgbClr val="ffffff"/>
                </a:solidFill>
                <a:latin typeface="Bell MT"/>
              </a:rPr>
              <a:t>ohjelman kohderyhmä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Bell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Bell MT"/>
              </a:rPr>
              <a:t> </a:t>
            </a:r>
            <a:r>
              <a:rPr b="0" lang="fi-FI" sz="2400" spc="-1" strike="noStrike">
                <a:solidFill>
                  <a:srgbClr val="ffffff"/>
                </a:solidFill>
                <a:latin typeface="Bell MT"/>
              </a:rPr>
              <a:t>käyttötava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838080" y="1599840"/>
            <a:ext cx="3200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454320" indent="-340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Ennakkotutkimu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512360" y="2971800"/>
            <a:ext cx="6844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Selvitetään mitä aiheesta on jo ennen tehty ja sanot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Materiaali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videomateriaal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äänileikke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haastattel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kirjallinen lähdemateriaali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857160" y="642960"/>
            <a:ext cx="2819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Ideointi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636480" y="1500120"/>
            <a:ext cx="471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Tuttujen asioiden uusia yhdistelmiä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näkökulman vaihdoks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asioiden kääntämistä päälaelleen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666000" y="2928960"/>
            <a:ext cx="5893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Hyvän idean tunnusmerkki = yksinkertaisu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Käsikirjoittaja kysyy itseltää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miten viesti saadaan peri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Tee mindmap, neuvottelu tai aivoriih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Vapaa assosiaatio on tärkeää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Mikä on paras ide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713880" y="571320"/>
            <a:ext cx="22100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Synopsi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57120" y="1214280"/>
            <a:ext cx="33731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Synopsis on tiivistelmä multimediatuotteen sisällöstä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Se on eräänlainen hahmotelma kirjallinen tai kuvallin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Millainen tuote tulee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Lukija saa käsityksen myös elokuvan lähestymistavasta ja tyylistä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Synopsista seuraa tavallisesti treatment ennen varsinaista käsikirjoitus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Mitä siinä pitää käytännössä oll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Suorakulmio 4"/>
          <p:cNvSpPr/>
          <p:nvPr/>
        </p:nvSpPr>
        <p:spPr>
          <a:xfrm>
            <a:off x="428760" y="4286160"/>
            <a:ext cx="4572000" cy="19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imes New Roman"/>
              </a:rPr>
              <a:t>ohjelman sanoma, päälau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ffffff"/>
                </a:solidFill>
                <a:latin typeface="Times New Roman"/>
              </a:rPr>
              <a:t>ohjelman kohderyhmä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ffffff"/>
                </a:solidFill>
                <a:latin typeface="Times New Roman"/>
              </a:rPr>
              <a:t>ohjelman käyttötavat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ffffff"/>
                </a:solidFill>
                <a:latin typeface="Times New Roman"/>
              </a:rPr>
              <a:t>ohjelman rakenteesta ja muodost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ffffff"/>
                </a:solidFill>
                <a:latin typeface="Times New Roman"/>
              </a:rPr>
              <a:t>lyhyt luonnostelma sisällöstä ja tarinas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ffffff"/>
                </a:solidFill>
                <a:latin typeface="Times New Roman"/>
              </a:rPr>
              <a:t>ohjelman lähestymistapa ja näkökulm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ffffff"/>
                </a:solidFill>
                <a:latin typeface="Times New Roman"/>
              </a:rPr>
              <a:t>ohjelman tyylilaj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fi-FI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hjelman materiaali (haastatteluja, arkistomateriaalia tms.)</a:t>
            </a:r>
            <a:r>
              <a:rPr b="0" lang="fi-FI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5"/>
          <p:cNvSpPr/>
          <p:nvPr/>
        </p:nvSpPr>
        <p:spPr>
          <a:xfrm>
            <a:off x="990000" y="1447920"/>
            <a:ext cx="18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622160" y="2666880"/>
            <a:ext cx="716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Laajahko tiivistelmä, joka kattaa koko tarinan ja juon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Voidaan toteuttaa esim. kohtausluettelo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5"/>
          <p:cNvSpPr/>
          <p:nvPr/>
        </p:nvSpPr>
        <p:spPr>
          <a:xfrm>
            <a:off x="928440" y="1000080"/>
            <a:ext cx="228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Käsikirjoit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24840" y="1928880"/>
            <a:ext cx="9335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Kuvaillaan kameran toiminta/ohjelmassa toteutettu animaatio tms. sisält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yksityiskohtaisesti (mitä tapahtuu missäkin kohtaa esitystä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Repliikit, selostusteks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Kokonaisuus jaettu kohtauksik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selkeä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Konkreettin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Storyboard – kohtaukset jaetaan kuvik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7"/>
          <p:cNvSpPr/>
          <p:nvPr/>
        </p:nvSpPr>
        <p:spPr>
          <a:xfrm>
            <a:off x="1071720" y="928800"/>
            <a:ext cx="46940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400" spc="-1" strike="noStrike">
                <a:solidFill>
                  <a:srgbClr val="ffffff"/>
                </a:solidFill>
                <a:latin typeface="Times New Roman"/>
              </a:rPr>
              <a:t>Ohjaus- ja leikkauskäsikirjoituk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ohjaajan ja kuvaajan tehtäviä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työkaluja kokonaisuuden hallint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Käytännössä tärkeää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Mitä tapahtuu milloinki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Miten sovitan äänen ja kuvan toisiins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Ääni- ja kuvaraidat yhtenäisik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Editointi: kuvakoon siirtymät, leikkaus, efekt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Rectangle 4" descr=""/>
          <p:cNvPicPr/>
          <p:nvPr/>
        </p:nvPicPr>
        <p:blipFill>
          <a:blip r:embed="rId1"/>
          <a:stretch/>
        </p:blipFill>
        <p:spPr>
          <a:xfrm>
            <a:off x="0" y="152280"/>
            <a:ext cx="6095880" cy="1189080"/>
          </a:xfrm>
          <a:prstGeom prst="rect">
            <a:avLst/>
          </a:prstGeom>
          <a:ln w="0">
            <a:noFill/>
          </a:ln>
        </p:spPr>
      </p:pic>
      <p:sp>
        <p:nvSpPr>
          <p:cNvPr id="100" name="Tekstikehys 4"/>
          <p:cNvSpPr/>
          <p:nvPr/>
        </p:nvSpPr>
        <p:spPr>
          <a:xfrm>
            <a:off x="642960" y="2500200"/>
            <a:ext cx="43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Onnistuiko alkuperäinen suunnitelm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20:41:20Z</dcterms:created>
  <dc:creator>Sammy</dc:creator>
  <dc:description/>
  <dc:language>en-US</dc:language>
  <cp:lastModifiedBy>Mika Hakala</cp:lastModifiedBy>
  <dcterms:modified xsi:type="dcterms:W3CDTF">2011-10-03T16:58:09Z</dcterms:modified>
  <cp:revision>14</cp:revision>
  <dc:subject/>
  <dc:title>PowerPoint-esity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10400.0000000000</vt:lpwstr>
  </property>
  <property fmtid="{D5CDD505-2E9C-101B-9397-08002B2CF9AE}" pid="3" name="TemplateUrl">
    <vt:lpwstr/>
  </property>
  <property fmtid="{D5CDD505-2E9C-101B-9397-08002B2CF9AE}" pid="4" name="_CopySource">
    <vt:lpwstr>http://opit.timali.fi/it/datansilta/Materiaali2011/käsikirjoitus_multimedia.ppt</vt:lpwstr>
  </property>
  <property fmtid="{D5CDD505-2E9C-101B-9397-08002B2CF9AE}" pid="5" name="_SharedFileIndex">
    <vt:lpwstr/>
  </property>
  <property fmtid="{D5CDD505-2E9C-101B-9397-08002B2CF9AE}" pid="6" name="_SourceUrl">
    <vt:lpwstr/>
  </property>
  <property fmtid="{D5CDD505-2E9C-101B-9397-08002B2CF9AE}" pid="7" name="xd_ProgID">
    <vt:lpwstr/>
  </property>
</Properties>
</file>