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10C-5749-443B-A17D-09E40CDE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E16-5EBE-46DF-9B7F-8BCC7C50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287-C4FF-413B-AF21-1D767987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6F0-CCB2-4E3D-A68A-891B7120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F7F3-8757-4F59-9AC9-2F8278C3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4008-1220-4B81-AD93-46F439B7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D527-86A4-497A-B1DB-54CEEE95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7AB5-2A5A-4EF8-A953-D0D519D1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1025-86B8-45D3-8FB2-59DFD49A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3C24-4D26-4426-ACB3-AADB08A1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66AC-6392-493E-A843-07AF23D5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CF3-04AC-4698-90DF-8394F880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55ED-0694-4549-97C9-2D261F9F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17C8-D0F6-4E60-B53A-7D30FC51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2DA2-FFA2-4B6F-9E6E-AA21847B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A1F9-B0FC-4A81-A6B1-E4C54D26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E15B-16A9-4493-8D6F-C96C4289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8CB-556A-4B40-ADC2-9891987D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6F8-23A4-48B4-AB61-71EAAC7B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5AF-F8F7-4B00-9346-8619206E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209-BCA7-493F-9956-E90CA137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BC9-9C72-4ADC-A619-EE41C5DB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A2B-0642-4221-995E-04CB1005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D23-7B8F-484C-A547-BA4DCD4A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D35F-0758-47CE-A46C-546FC82461C2}" type="slidenum">
              <a:rPr b="0" lang="fi-FI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FD77-A017-40E6-ABF4-72986CEECB82}" type="slidenum">
              <a:rPr b="0" lang="fi-FI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tsikko 1" descr=""/>
          <p:cNvPicPr/>
          <p:nvPr/>
        </p:nvPicPr>
        <p:blipFill>
          <a:blip r:embed="rId1"/>
          <a:stretch/>
        </p:blipFill>
        <p:spPr>
          <a:xfrm>
            <a:off x="639720" y="2127240"/>
            <a:ext cx="7931160" cy="2017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onvertoi eri muotoihi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uettuja tiedostomuotoja ovat ainakin: MPEG, VOB, PS, M2P, MOD, VRO, DAT, MOV, DV, AVI, MP4, TS, M2T, MMV, REC, VID, AVR, M2V, M1V, MPV, AIFF, M1A, MP2, MPA, AC3, ..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3360" cy="1334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Book Antiqua"/>
              </a:rPr>
              <a:t>Handbrak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uuta tiedostoja pienemmiks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Helppo kompressoint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Ilmaine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oinen vaihtoehto on SUPER, joka on helppokäyttöinen ja ilmainen, mutta jonka tietoturvasta ei ole tieto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Book Antiqua"/>
              </a:rPr>
              <a:t>Virtualdub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on ilmainen, pieni ja tehoka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http://www.jhepple.com/support/sample_movies1.ht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peg2 – häviöllinen, poistaa korkeataajuisen kohinan ja pieniä silmille näkymättömiä yksityiskohtia, vain eroja kuvaava data mukana, ei esim. kuvaelementin tietoja, vain liikevektori, GOP, D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nkooder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Dekooder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odekk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tsikko 1" descr=""/>
          <p:cNvPicPr/>
          <p:nvPr/>
        </p:nvPicPr>
        <p:blipFill>
          <a:blip r:embed="rId1"/>
          <a:stretch/>
        </p:blipFill>
        <p:spPr>
          <a:xfrm>
            <a:off x="500040" y="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800" spc="-1" strike="noStrike">
                <a:solidFill>
                  <a:srgbClr val="ffffff"/>
                </a:solidFill>
                <a:latin typeface="Book Antiqua"/>
              </a:rPr>
              <a:t>yleiskuva Y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aaja kokokuva LKK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okokuva KK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aaja puolikuva LPK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800" spc="-1" strike="noStrike">
                <a:solidFill>
                  <a:srgbClr val="ffffff"/>
                </a:solidFill>
                <a:latin typeface="Book Antiqua"/>
              </a:rPr>
              <a:t>puolikuva PK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uolilähikuva PL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fi-FI" sz="2800" spc="-1" strike="noStrike">
                <a:solidFill>
                  <a:srgbClr val="ffffff"/>
                </a:solidFill>
                <a:latin typeface="Book Antiqua"/>
              </a:rPr>
              <a:t>lähikuva LK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rikoislähikuva ELK (tehokeino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Book Antiqua"/>
              </a:rPr>
              <a:t>Perustuvat ihmisen mittasuhteisii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Book Antiqua"/>
              </a:rPr>
              <a:t>Transitiossa max kahden kuvakoon muuto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Tekstikehys 3"/>
          <p:cNvSpPr/>
          <p:nvPr/>
        </p:nvSpPr>
        <p:spPr>
          <a:xfrm>
            <a:off x="4643280" y="228600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800" spc="-1" strike="noStrike">
                <a:solidFill>
                  <a:srgbClr val="ffffff"/>
                </a:solidFill>
                <a:latin typeface="Arial"/>
              </a:rPr>
              <a:t>Muista kuin ihmisistä otetut kuvakoot on kursivoitu. Myös niitä voidaan käyttää tietenkin ihmisten kuvaamises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kstikehys 4"/>
          <p:cNvSpPr/>
          <p:nvPr/>
        </p:nvSpPr>
        <p:spPr>
          <a:xfrm>
            <a:off x="4714920" y="39290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Klassinen: laaja-lähelle-la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tsikko 1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41212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aljon yksityiskohtia, pidempi kuvausaik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ähän yksityiskohtia, vähemmän kuvausaikaa, esim. pelkkää maantietä max 10 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ee kiinnostavaksi ja yllättäväksi katsojan kannalt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Ota huomioon valaistus, kuvaatko pimeässä, hämärässä, valoisassa. Älä kuvaa aurinkoa vasten kuin tehokeinona. Pieni lux määrä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äytä jalustaa, jos et käytä tehokeinona käsikuvaust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Rauhallisu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uvasuunnittel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äytä vain optista zoom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lon keinotekoista vahvennusta pitää välttää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rillinen mikrofoni voi olla järkevä ratkais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uvaa mieluummin liian paljon otoksia kuin liian vähä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ieti kenelle juttua tehdään kuvatessas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Editoidaan parhaalla laadulla, valmiista projektista tehdään versioita eri medioihin, jolloin valitaan laatu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Otoksie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järjestäminen oikeaan järjestyksee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Alku ja loppukohdan määrittäminen (in/out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Kohtauksien (ja myös otoksien) väliset siirtymäefektit (transitiot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Videoefektit (esim. mustavalkoinen 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Äänen käsittel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raitojen miksaamine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ääniefektien lisäämine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ääniefekti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ärimäärittely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lkotasapainojen säädö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Useamman ääni- ja videoraidan käyttäminen (layerit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isätään taustamusa, ääniefektit, speakit ja tekstitykset omille raidoille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ideotiedostot (otokset) editointiohjelma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Eivät lataudu ohjelmaan, vaan ainoastaan tieto sijainnista!!  </a:t>
            </a:r>
            <a:r>
              <a:rPr b="0" lang="fi-FI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 älä poista/muuta videotiedostoj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Otos raahataan joko timelinelle tai leikkausikkunaan, täsmätään alku ja lopp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Samaa otosta voi ”käyttää” useamminkin ja jo leikatun osan voi venyttää takaisi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Otoksien väliin raahaamalla siirtymäefektit, otoksiin efektit </a:t>
            </a:r>
            <a:r>
              <a:rPr b="0" lang="fi-F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tarkempi säätö mahdollist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Ääniraita on oletuksena linkitetty ko. videoon, voi irrottaa ja poistaa tarvittaess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tsikko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71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otikaurismen_lyhyt_oppimr_MB_05.pd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yhyt alkeita kuvaava videokuvaamisen artikkel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öytyy opit-portaalist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ideon editointi eli leikkaus tarkoittaa yksinkertaisuudessaan videokameralla kuvatun materiaalin leikkaamista otoksiksi ja näiden ottojen järjestelyä sekä keston muuttelu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isäksi voidaan laittaa efektejä, lisätä ääniraitoja ja muuta multimediaa (tekstiä, animointeja jne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Yleisesti hyvää konetehoa: keskusmuistia, hyvä prosessori, hyvä näytönohjain, kiintolevytila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Isoja tiedostoja varten NTFS-tiedostojärjestelmä käytössä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Sopivat kaapelit tiedonsiirtoa varten videokamerasta (firewire, usb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Jokin ohjelma, joka ymmärtää tiedostomuotoa ja jolla voi editoida tiedostoa (tai konvertoida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858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innacle Studi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Camtas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dobe Premiere Elem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iMovi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ovieMak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dius 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Ilmainen ohjelma: DVD Flic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sim. dv-formaatist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uunnetaan mpeg2:sk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appaleiden tek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ekstity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3:26:53Z</dcterms:created>
  <dc:creator>ahietala</dc:creator>
  <dc:description/>
  <dc:language>en-US</dc:language>
  <cp:lastModifiedBy>Mika Hakala</cp:lastModifiedBy>
  <dcterms:modified xsi:type="dcterms:W3CDTF">2011-10-10T17:53:06Z</dcterms:modified>
  <cp:revision>23</cp:revision>
  <dc:subject/>
  <dc:title>Videoeditointi</dc:title>
</cp:coreProperties>
</file>