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A90-668F-4793-AF7A-A6C42AAE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5BB-A087-4995-8F8D-FFCDC76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D67CE-B3F4-42B6-A6ED-C40AB15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F94B8-EB55-4B94-B209-3F57027C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5A8D9-7F6A-44A9-83FD-CA6FD11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AA049-72E0-45ED-A68A-45636D3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EEB35-DB7C-4C5B-98D7-9D291D2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38B19-094E-4866-A011-99F206A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7CB12-A3AF-478B-B609-B896360B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48306-693F-4B80-A92A-5A942DEE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085C5-5E2D-4CC6-AB51-2875991C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00C1-A156-490D-BDD1-B6C63029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853-DA84-4071-9A70-B99808EC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D706C-7D55-4050-A437-3EC8AF1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5706D-A7DF-4F8F-AB75-DC1BFF69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20F19-327E-4FBB-AF4F-A42E1495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4A8A-F5CC-4359-B170-6588D4F8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9DA15-5133-41CD-A40F-57F48C6D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24FC3-7F39-4ED9-969D-5AB4C38C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DA046-B80B-4FB5-9C4B-1B5C985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F5BDC-8E25-48EB-95C7-70FF41F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7F64D-21E8-4E0D-9358-2EA5026C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4C49A-90CA-4834-9FC7-285014A0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C72-EDEB-4D94-8790-B2EF358E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95279-E21D-439D-B364-4F1643DD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5AC1-CB35-499D-AD48-66ADBB2F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893F-DEC7-44EA-831A-E7D6310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6EEBE-2D04-4D33-BDBA-1B66D508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1D27-F58E-48E1-9FE1-77C08520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5E44A-FF13-4DDC-8718-1ECD4586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C6C8-BEB7-4D22-8592-60BC854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8AE33-F5D5-40CB-9243-6322D77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1E054-0FFD-4583-BC02-6593D0A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C74B-58D1-493B-B6F4-D5E0425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56B3-4F30-4503-A587-ABB4A9BC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460DE-1505-426A-ABF9-4A386307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1996-9571-46F9-9FF1-FB5FAFD1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91AF-D42E-43A2-BFC1-26981C4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E9EED-0CB4-4C6C-BFDA-74639346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966B-44D0-4EAC-8C76-608725E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425EF-44C8-4EF9-AF57-2A59548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7BED7-B54F-467B-A045-57A2CF5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AE48A-D307-43ED-98E2-E0836DF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2400C-5020-406D-B62A-B5004BD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4B5CC-606E-4840-BDA3-837A1010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1BF2-4E3D-488A-A0B8-6A54FC6D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C3DA3-67A9-491D-9460-CE06AA83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60996-09F3-4418-BA0B-D2302A7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2B52-8999-4649-9831-D778893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0DA75-334E-4B8C-BE69-821C7923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D278-F732-43C9-824A-08FCCC8A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0FEA0-9819-40FD-BFE3-B33492A5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5F382-6438-4D04-9A09-C388FBE2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F4C98-4EED-4D51-B9DF-A8D6992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36B54-CD3B-4BD8-8939-8C8EC44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CF83A-E388-4685-B230-F505A49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8F7-C8E3-47B8-B06B-31D54359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33030-5CDF-49CE-A634-4AB1A14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AAD91-F5BB-4B68-8AEF-763B8E02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29F5B-A0C1-4384-9159-919F607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F87DF-DBE0-4156-AC0E-421FEC7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6B657-D6B8-4B3F-B1DA-153FDC5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ECE94-68C6-4431-9EA7-F7634E32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BFF9F-BBFE-4A1B-89DF-90687A7C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598BE-D4E3-436B-AB72-1599F631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143BC-17D2-4044-BF96-CDA6A3C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67F6C-BC2E-49CD-A5A6-5FAA2FBC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A8C3-9F6E-407C-A960-05DC3A09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5D5EE-7704-424E-B1C1-A124A30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4B506-88E5-4C77-AB6C-4F31DC6E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F7503-8734-487D-8FC7-5431EDFE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B7C6E-5B0E-4169-8E87-6F6BABC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89D98-DAEE-4FF1-BC82-8F552F9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C5A58-8D30-4634-8371-B2FA34F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FDC6F-6554-4130-8EC1-4A8BCD07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62F82-AC82-4881-9065-D0D0364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40FC3-D633-4DB2-8C28-65ED93FE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9890E-0A1B-4805-9368-E241679D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975-D927-462A-A8AE-F5636584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06D84-2F3D-4D09-BC90-58F038E4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9AF35-C0D8-4FFD-BD60-A88D78F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F5E87-2C29-4474-B039-BFF10979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FE8BA-B365-46EE-8674-B09D9C5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764C6-54E2-4BCD-92E9-39EBA7A9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0F11C-2F50-4A79-BD38-D0F2053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E66CC-2AF7-413F-83B0-DA4932C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3BEDE-4ED8-4BB8-9DAC-A0D0866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76FD6-E871-4C46-8BCE-D9EEAD86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35FA9-623A-413F-BC9F-7FD2698F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11F-EB15-4926-8302-7D604C0F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B5A95-58D6-46BC-9DE6-4D28386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09F77-2B5E-48CF-9D55-224D3F5F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26FE4-5ECA-40BA-989E-78C7045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DA7F5-2EFF-4C12-868F-5C29247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51E71-3D5B-4D5E-AA60-288C845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592B3-D46F-498A-B9BF-85F06CE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9B6A5-028E-42E8-96F0-49E3F92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551CC-6A40-4418-90A4-5CC8B5B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CE8A1-D0DE-415A-9D00-746ADC7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6AB56-AE9E-49E9-8A1E-F66563B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AA15-480F-4667-AD09-9475143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975D5-0A7D-4210-8F71-1290B707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301E3-7021-4D58-A3FD-581D157E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2FFEA-629C-4184-A450-17B3CD7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A4F31-D024-4FD3-9F51-BE396518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D083B-C6F9-402D-B0C7-83654C8F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24319-B155-468F-A47F-D20284AF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E4817-B27A-4B27-A649-C02FE45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5E87C-3A21-41D9-82B5-632DE1D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A56D0-6286-47CA-B879-2483F54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AC202-B734-4938-9164-419348D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84B-7B28-43AC-9015-4F9DAE1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F7E-4F31-4C14-8534-0908E2A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97A8C-8AE2-43FB-810F-7CE7BB7A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CF47B-A7C8-46D5-A6C1-053D504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73A3B-04D4-46D1-BEA3-1BE8295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305F0-19B8-439A-9B93-82FE760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38504-91CB-48C2-9759-FF1896A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5047-E576-4A74-9A3D-14FD324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82C0-ADF3-4BE0-823F-02BFB675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B9B0-AA6F-4DD7-A129-E9006BC4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9F34-AD9A-4CBB-B18A-01D63E85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3C17-4824-40B9-90A3-67482F39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7169-FA80-457A-9173-C83B72A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C917-A0D2-4F34-AC03-D3D83096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E7CF-6C9A-4E6C-8A04-D84880F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7E95-AB0A-4591-8711-220DB17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45E-032E-45FF-A20A-A644080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4C99-D1A6-48BB-86B6-A2657C9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0C26-2083-4266-98D4-F3E3B35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91E1-6B9B-40BB-B797-7EA8301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25AD-E3A8-466B-A2C6-02B73A65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03D5-1474-427B-B1D4-057D7A4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A8CC-FA50-46DD-81EE-265101BB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B5DD-11A9-4E8D-9399-0BD2D36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3314-FFDA-420D-BA6B-5B7E9BF8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3038-3823-437A-A015-59628FE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02DC-B85E-481D-AD83-E8572C3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3A6-5F90-4DF7-BF81-4441814A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86BA8-6BF9-4539-A21D-6BF49964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B050-A3FC-4477-B18A-7C120E7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9477C-1044-4AE7-86C4-49F2BE5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E675-BBA8-47C5-9D23-8A61100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76CA-C3E9-4F02-99DA-2DF012E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1290-38B9-4FBD-9C32-4D2DF4F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30B39-3DBD-47F6-A26C-7FD7EC7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1827-5F0B-4CDC-900A-0EE3AE0F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0E2E-F3E7-4F0B-9F72-39AE9892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C679-3D55-42D7-A100-3764FD52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189-41A4-49A9-B7BD-94B1DEAD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3186-26BE-451A-8072-65F1C529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32AB-D13F-4FB4-9E52-F5FA313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E083-A477-4799-B3C7-7EFDD7D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85B3-2296-43A4-BBC1-49EA8A8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9BB5F-06F7-4D92-9D44-3A39F57C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A0A6-94A0-404D-8743-72CDBD7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D13D-40A2-4D0F-A290-52D0517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6743-BCF8-42BD-87EE-02C1431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C6F83-114C-4E22-9CE3-746F73C5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20F1-920F-4E67-A17F-E1240A65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917-59C5-475F-BD35-726EADD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9C92-E14E-450F-87AB-675BD51B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0EDC-3CA6-47F8-A54A-2E234B6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B2F7-13B3-40F9-9308-FA2D88D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CED5-7DCB-4AEB-BA2F-AB3968D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BFE6-E849-4984-8AC8-63C6BCC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E7C7-84F9-4854-B3E4-1FCBF3C7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C808-15E8-4AB9-9621-F3AE5B7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E9CE-35EF-4C6C-B5F1-8849B6A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6F87-D9B3-4708-9B03-5BBE472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6715-F1AF-4509-9A74-D8F26AA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A9E-8CEF-4FA0-84DE-BA16378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15EB-C462-4E39-B192-57747C0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17EE-32FD-422A-833C-E64DCA1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0F8A-E549-4105-99A5-E6CDDCC8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A224-A358-43F3-9C84-8FCCE19E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25F0-1AC4-4862-A4E9-876216F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7F49-AA6A-44A0-ADC6-9F374AAC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F846C-8546-4CC0-B6CE-3DE40F9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7481-A517-4719-BB17-B2C6219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B960-CF05-434D-9D3A-71B95BE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1CD1-24D7-42C0-A7C4-FDFE6FB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94-DF08-481D-9EB6-F9F5B05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C9CCD-D98D-4F43-8096-EEDBF5C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B7FA-98A4-4D66-B88D-83B833D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21AA-50A6-4582-BA45-7F9560F1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5BEA-DE40-4373-A31A-60A096B4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BEDF-98B8-42C7-A43E-321117F7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AAAC-6F80-4BA1-896B-5405BF7F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0E98-6256-4816-B41D-B2EC60A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B267-49D2-4E64-8273-2E8985E2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CB11-C6D5-4FFB-973F-65930C3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BD69E-F2D8-4E01-B17E-EFD65A0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F06-794F-491E-A8B3-84860DA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DBED-EACE-4432-9F16-4030EA2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4F6B-C8D2-4103-97CD-FDE5A5B1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76C7-07B9-4511-8888-D57AC20E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6E16-D898-437B-99F8-338E729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9ED8-7ACC-4981-99C8-12A1C6E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B6E5-EE7D-43BC-85A9-5B181C2A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6B37-8C22-437F-B260-0414FEEC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C12F-B10E-4D45-9300-D58EE436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81366-22AC-4AFC-AD2F-A7A857E0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D2CEF-F69A-40A9-9641-41E02CE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2C7-2B41-467C-B8BD-48E2B305ACF6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02D-C4B2-4AEC-BEAA-AAD711BBA1DB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CDE-B5B1-409F-A6D7-CDB918F45855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3DD-C48D-4A9F-AFAB-93A1F38DE923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5C0-EC28-4BB7-9464-7BB29D9D8A02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417-B4E1-4464-A17D-0A9891CDD4A5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27A8-86F9-4B50-93E4-356528CEDE76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98E-80FA-4246-BA7B-0446CE9B2012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B6CF-4B28-426D-9055-2E14819109B6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EC3-C092-407D-91E5-F2C6DDF7A455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3D5-67AA-40BE-B840-20997039A293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F2E1-1E32-4CB3-A5C3-9FF9CE60A32D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EBE3-3851-412E-9904-B073BF378040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140-312D-4A39-98E0-703C92437C8A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11F-9F86-47DE-9BE8-1DD3E7A62585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632-7380-40E5-9910-12ADA522FFCA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59C3-052F-4D0A-81DF-ADF75DA6368A}" type="slidenum">
              <a:rPr b="0" lang="fi-FI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09440" y="11556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3200" spc="-1" strike="noStrike">
                <a:solidFill>
                  <a:srgbClr val="262626"/>
                </a:solidFill>
                <a:latin typeface="Century Gothic"/>
              </a:rPr>
              <a:t>Esitysgrafiikka multimediakontekstissa, esim. mainoksen tai käsikirjoituksen esittely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186920" y="2181240"/>
            <a:ext cx="362916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Kokonaisu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Selkey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Helppo katsell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Suunnittelumallin harkittu käyttö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Teksti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Riittävän suurta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Yhtenäinen linja fonteiss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Fontin tuettava sisältöä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932360" y="2215800"/>
            <a:ext cx="38606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Kuv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Tuettava sisältöä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alokuva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Piirrokse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Kaavio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Tehostee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400" spc="-1" strike="noStrike">
                <a:solidFill>
                  <a:srgbClr val="404040"/>
                </a:solidFill>
                <a:latin typeface="Century Gothic"/>
              </a:rPr>
              <a:t>Käytetään dian ja dian osioiden vaihtumisee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Animaatiot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ideo ja ääni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Voit liittää tai upottaa materiaaliksi mitä tahansa tekemääsi multimediaa (flash, mp3, mp4, pdf, tekstitiedostot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404040"/>
                </a:solidFill>
                <a:latin typeface="Century Gothic"/>
              </a:rPr>
              <a:t>Ohjeist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1500" spc="-1" strike="noStrike">
                <a:solidFill>
                  <a:srgbClr val="404040"/>
                </a:solidFill>
                <a:latin typeface="Century Gothic"/>
              </a:rPr>
              <a:t>Ohjeistus opettajalta, varaa ohjausaika Sharepointista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58:37Z</dcterms:created>
  <dc:creator>sillhil</dc:creator>
  <dc:description/>
  <dc:language>en-US</dc:language>
  <cp:lastModifiedBy>HP-430-MJ</cp:lastModifiedBy>
  <dcterms:modified xsi:type="dcterms:W3CDTF">2016-02-07T14:46:03Z</dcterms:modified>
  <cp:revision>2</cp:revision>
  <dc:subject/>
  <dc:title>Esitysgrafiikka</dc:title>
</cp:coreProperties>
</file>