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CE3-E0C9-412B-940C-3E2AE698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E5A-0BBF-4FEE-8115-AFB433BA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C68-D6F2-4EC9-AC3B-5E62FC33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B6D-429C-473C-9040-E65E4FA4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811D-353A-45F0-83BA-518A545B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05B7-7226-4FA8-B848-ED47F8B8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37B8-EFE6-409E-9B8C-5A5C2A5B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8C4A-2CA0-4BD0-A19E-F226C210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F2C5-92A8-41EB-B1D3-2B7207C1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BC11-5BAA-4FD4-9C7D-ACFD400A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CA28-E693-4BB7-AC40-1296A682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07D-4385-43EC-A3D0-FAAC792B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B1CB-9101-4B72-9178-C1A25963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399B-2E8C-4F89-88D0-E88DF15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3F9-8E2B-4E19-AACB-9561079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9B06-8D3B-4816-84BD-F5DBB248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2B16-3A30-4B38-AAB1-7A7BDBB5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745-195A-4F41-8090-C978B52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3AA-CC05-4B81-8779-A7C60BEA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A1D-F7B1-4F84-9A72-D6ED9760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627-1D79-46CD-8202-3A96DD3C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C90-1A8B-49D4-AC3E-E5E7DC5F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02E-4D8C-4675-B621-52DC37BF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46F-7B15-4C3D-9916-0F62C22C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74D-B023-4CB1-8FE1-950D2B101026}" type="slidenum">
              <a:rPr b="0" lang="fi-FI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AA05-10E1-4DF7-9149-E49FB1F05D3D}" type="slidenum">
              <a:rPr b="0" lang="fi-FI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57160" y="213840"/>
            <a:ext cx="532944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Book Antiqua"/>
              </a:rPr>
              <a:t>KÄSIKIRJOITUS MULTIMEDIATUOTANNON SUUNNITTELUN JA TOTEUTTAMISEN VÄLINEENÄ 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Mihin käsikirjoitusta tarvitaan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Mitä vaiheita käsikirjoittamisessa on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tsikko 1" descr=""/>
          <p:cNvPicPr/>
          <p:nvPr/>
        </p:nvPicPr>
        <p:blipFill>
          <a:blip r:embed="rId1"/>
          <a:stretch/>
        </p:blipFill>
        <p:spPr>
          <a:xfrm>
            <a:off x="281160" y="274680"/>
            <a:ext cx="867384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itä multimediaesitys pitää sisällään?</a:t>
            </a:r>
            <a:br>
              <a:rPr sz="2800"/>
            </a:b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br>
              <a:rPr sz="2800"/>
            </a:b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vaa, ääntä, videokuvaa, animaatiota, tekstiä, efektejä. (Vähintään kolmea näistä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stannusarvio, tuotantoaikataulu.</a:t>
            </a:r>
            <a:br>
              <a:rPr sz="2800"/>
            </a:b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ultimediatuotteiden ylläpito yrityksessä.</a:t>
            </a:r>
            <a:br>
              <a:rPr sz="2800"/>
            </a:b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uotantoprosessin dokumentoint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opputuotteen esteettisyys ja viihtyisyy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http://mediakompassi.yle.fi/4-6-luokkalaiset/kuvakoulu/kuvan-lumo/kuvakoo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8 eri kuvakokoa, opettele lyhente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vakäsikirjoitus tehdään kuvakokojen muka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atso seuraavista tehtävistä käytetyt kuvakoot ja siirtym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Analysoi jokin videonpätkä ja mieti, mitä käsikirjoitusvaiheita siinä oli. Mieti myös kuvakulmia (esim. http://muuttokurki.weebly.com/esittelyvideo.htm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Tee pieni käsikirjoitus (kuvallinen, storyboard ja kirjallinen) kuvitteellista projektia varten (tv-mainos elintarvikkeesta). Esimerkki http://www.youtube.com/watch?v=wvzZtNh7Ag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Mietitään yhdessä lomakkeet, joita tarvitaan käsikirjoittamisee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56760" y="64260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ell MT"/>
              </a:rPr>
              <a:t>Brief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-227160" y="1500120"/>
            <a:ext cx="88718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Tilaajan päätehtävä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kertoo projektin lähtökohdat (briiffaa kirjoittaj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toimii lisäinformaation lähteen kirjoittamisprosessin aik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hyväksyy lopullisen käsikirjoituksen ennen kuvausten alk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el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ohjelman tavoi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el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ohjelman kohderyhmä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el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käyttötav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15998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4320" indent="-34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nnakkotutkim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12360" y="2971800"/>
            <a:ext cx="684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elvitetään mitä aiheesta on jo ennen tehty ja sanot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ateriaal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videomateria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äänileikk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haastattel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irjallinen lähdemateriaali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57160" y="642960"/>
            <a:ext cx="281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deoint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36480" y="1500120"/>
            <a:ext cx="47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Tuttujen asioiden uusia yhdistelmi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näkökulman vaihdok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asioiden kääntämistä päälaellee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66000" y="2928960"/>
            <a:ext cx="589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Hyvän idean tunnusmerkki = yksinkertaisu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äsikirjoittaja kysyy itseltää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ten viesti saadaan per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Tee mindmap, neuvottelu tai aivoriih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Vapaa assosiaatio on tärkeää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kä on paras ide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13880" y="57132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ynop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57120" y="1214280"/>
            <a:ext cx="3373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ynopsis on tiivistelmä multimediatuotteen sisällöstä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e on eräänlainen hahmotelma kirjallinen tai kuvallin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llainen tuote tule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Lukija saa käsityksen myös elokuvan lähestymistavasta ja tyylistä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ynopsista seuraa tavallisesti treatment ennen varsinaista käsikirjoitus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tä siinä pitää käytännössä oll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uorakulmio 4"/>
          <p:cNvSpPr/>
          <p:nvPr/>
        </p:nvSpPr>
        <p:spPr>
          <a:xfrm>
            <a:off x="428760" y="4286160"/>
            <a:ext cx="457200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sanoma, pääla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kohderyhmä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käyttötava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rakenteesta ja muodos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lyhyt luonnostelma sisällöstä ja tarina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lähestymistapa ja näkökul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tyylil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jelman materiaali (haastatteluja, arkistomateriaalia tms.)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990000" y="144792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622160" y="2666880"/>
            <a:ext cx="716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Laajahko tiivistelmä, joka kattaa koko tarinan ja ju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Voidaan toteuttaa esim. kohtausluett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928440" y="100008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Käsikirjoi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4840" y="1928880"/>
            <a:ext cx="933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uvaillaan kameran toiminta/ohjelmassa toteutettu animaatio tms. sisält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yksityiskohtaisesti (mitä tapahtuu missäkin kohtaa esitystä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Repliikit, selostustek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okonaisuus jaettu kohtauksi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elke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onkreetti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toryboard – kohtaukset jaetaan kuvi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7"/>
          <p:cNvSpPr/>
          <p:nvPr/>
        </p:nvSpPr>
        <p:spPr>
          <a:xfrm>
            <a:off x="1071720" y="928800"/>
            <a:ext cx="4694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ffffff"/>
                </a:solidFill>
                <a:latin typeface="Times New Roman"/>
              </a:rPr>
              <a:t>Ohjaus- ja leikkauskäsikirjoituk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ohjaajan ja kuvaajan tehtävi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työkaluja kokonaisuuden hallint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äytännössä tärkeää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tä tapahtuu milloink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ten sovitan äänen ja kuvan toisiins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Ääni- ja kuvaraidat yhtenäisi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Editointi: kuvakoon siirtymät, leikkaus, efekt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4" descr=""/>
          <p:cNvPicPr/>
          <p:nvPr/>
        </p:nvPicPr>
        <p:blipFill>
          <a:blip r:embed="rId1"/>
          <a:stretch/>
        </p:blipFill>
        <p:spPr>
          <a:xfrm>
            <a:off x="0" y="152280"/>
            <a:ext cx="6095880" cy="1189080"/>
          </a:xfrm>
          <a:prstGeom prst="rect">
            <a:avLst/>
          </a:prstGeom>
          <a:ln w="0">
            <a:noFill/>
          </a:ln>
        </p:spPr>
      </p:pic>
      <p:sp>
        <p:nvSpPr>
          <p:cNvPr id="100" name="Tekstikehys 4"/>
          <p:cNvSpPr/>
          <p:nvPr/>
        </p:nvSpPr>
        <p:spPr>
          <a:xfrm>
            <a:off x="642960" y="250020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Onnistuiko alkuperäinen suunnitelm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20:41:20Z</dcterms:created>
  <dc:creator>Sammy</dc:creator>
  <dc:description/>
  <dc:language>en-US</dc:language>
  <cp:lastModifiedBy>Mika Hakala</cp:lastModifiedBy>
  <dcterms:modified xsi:type="dcterms:W3CDTF">2011-10-03T16:58:09Z</dcterms:modified>
  <cp:revision>14</cp:revision>
  <dc:subject/>
  <dc:title>PowerPoint-esity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0400.0000000000</vt:lpwstr>
  </property>
  <property fmtid="{D5CDD505-2E9C-101B-9397-08002B2CF9AE}" pid="3" name="TemplateUrl">
    <vt:lpwstr/>
  </property>
  <property fmtid="{D5CDD505-2E9C-101B-9397-08002B2CF9AE}" pid="4" name="_CopySource">
    <vt:lpwstr>http://opit.timali.fi/it/datansilta/Materiaali2011/käsikirjoitus_multimedia.ppt</vt:lpwstr>
  </property>
  <property fmtid="{D5CDD505-2E9C-101B-9397-08002B2CF9AE}" pid="5" name="_SharedFileIndex">
    <vt:lpwstr/>
  </property>
  <property fmtid="{D5CDD505-2E9C-101B-9397-08002B2CF9AE}" pid="6" name="_SourceUrl">
    <vt:lpwstr/>
  </property>
  <property fmtid="{D5CDD505-2E9C-101B-9397-08002B2CF9AE}" pid="7" name="xd_ProgID">
    <vt:lpwstr/>
  </property>
</Properties>
</file>