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7352-E87F-4E96-B8CF-C0AF94987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0B03-A9CF-40DB-AA40-3F9F25C15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6CCF0C-8EDB-482B-86EA-88E09444D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4168DA-DA0F-4E1D-A055-C84FE4BFB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ABD407-3FF0-455B-9E9E-1CFF6EF70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E31D9C-AF5E-46BE-BEAD-814DF6E0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41CD4D-B5E0-418F-8F35-F93EC9153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A8CCDA-F26C-43EE-9F82-70F29107B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1FC379-1318-4610-86ED-075227C54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451638-A27B-4842-89B0-3AFB530C9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F6D917-D5EF-424A-BB3F-8FF37AD10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379381-E932-4D36-8E25-876520345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C604-B52B-48EA-BABB-3F9200475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1E4FD6-0CA4-4303-92E8-5E932745B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26C651-EC44-4C94-BBBD-5CFD137F5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144AEC-366F-4FE7-ABB2-717DEBFCF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C9A4D1-F786-4436-9562-FB2AD5BAD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840996-71AA-4FEA-BE96-5F6FDB87A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85A940-C14F-489E-810E-D98DED7F6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D3446A-D64F-4D6A-BA16-0F730B3C1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913AC0-758A-43CA-8660-1132E1321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4F835E-0A86-42F7-9AB1-63C857DA4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828E1F-9858-4A01-B8F5-5BF5A47DE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E2D2-2451-465A-8B92-2C2F16280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983DE7-D6D6-4ACF-A357-83C0D8BEF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4400BF-26F4-4F5E-A8F6-46AC650FA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61D920-DA21-4E52-8410-0F2B2A0E6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F480BA-65BC-49E2-96AD-65A3D348F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60CEC4-CE6F-4250-A96C-CD5954BCC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AB8023-9300-4861-BB48-799821C86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0D1C9D-DDE6-45E1-917E-3BF091ACD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AC8858-6A3E-4C13-AFBB-643E6134A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065337-7FA0-45FB-BBA2-DBB0FB082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FE49AE-D38E-4D57-8413-122F0397B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55547-2F35-4958-B58B-67348E912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0089A4-86C1-46BE-917B-D66E341A0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F7B8D4-F306-4EB7-86E1-EE9456C36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C98255-7D53-4248-AABA-FC509AECE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87B8A0-9807-4043-9061-426A1E46C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94F5BF-6807-41DD-8B30-E040D232B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243920-8F5C-4BA1-9C5D-8B6B0B38F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BAD732-3F51-4447-BBF2-A288310EC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9E11A8-C6A7-4605-AEDB-30F5CFE5F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0B5A62-DD23-49FA-A06D-B640D4F05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7E1BEC-7D12-4838-B7F6-67D63CEED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271DF-BDD1-47B3-B47E-93CCD4548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81AC92-F193-4DD5-AE08-727F889E6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BCE159-A69E-40C1-9D07-5D9F53330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3C0D76-92F1-4C9F-A228-E987151D4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E13BA1-11B8-4C54-A6E7-9E6A84689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237D78-C52D-4353-9F1A-96D359B65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FCA751-EEC7-48A5-9BB8-791A42E06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40A70A-17D2-47BD-BFA1-92096763E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3E0BF3-DBE8-444B-8332-F9FCB72BC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EB0E53-DDA4-42E2-8237-4336BF385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129ED0-EFA8-4327-AA3F-545A40DFB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E9579-7717-4266-94FD-91E4C6DFE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C3F53D-A42B-4D5E-92A6-0301E3616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04E92D-0EA9-4636-8985-6F3EC01B5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4EA812-B2C2-428A-8A3F-699DD108D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6FE496-D1E3-419E-8A13-1A43CAE2C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795B1D-492D-428C-A2A8-260DEDE06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A9B687-B41D-4F76-B276-6D13BC75C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DCD1F5-794B-497C-8E43-96D35F95D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C429B4-6E1D-4657-BC2D-8E23A80B3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C7AB0A-5E7C-4810-8EFF-04EB73A39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A9F60B-DF9E-438F-9710-553BADBC2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8586A-876F-4BE3-9768-19B9B94ED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0FFA49-DC86-41A7-94AC-71368ADCD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A06BD6-062D-424F-B5E7-0453F2352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4F7EB5-AD16-4D57-92FB-779A9883E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32D1C9-4CF7-4380-9A56-65A60336A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C70EAE-AD36-4A0A-A3B1-AFF9B4128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AF02A0-3EA4-46F6-9FE9-906C200FB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EE2119-1663-4DE6-B551-BF9A0B041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723D39-828D-42CB-A16A-F93E83B9A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74CE5E-735D-41E8-82B2-ECD0C14A2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312684-3301-4F1C-A776-3BF65706F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6A223-7980-4A4A-B681-AC6268C65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864545-534A-4C63-9799-50795392E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BF71E9-668C-483F-8FC3-7F4770BD8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7B3124-EC20-4877-81CB-5683C59D6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ADD688-13DC-4C89-9B82-3E9598037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2FE1D1-3A1C-44F9-B0AF-69CCAA0F6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F350B0-A241-43FA-920C-8AF1B6782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4E06DF-1502-495D-A124-8AFAC19FC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5BB34D-56AA-4574-9EB5-F5952B227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98C8EC-66EE-4E93-919D-3337E694B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4D9890-CB76-4B93-8336-3D70E3455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2A888-FDC3-4D01-B99D-74AA67ABC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ECD0A9-99C9-4E89-A640-164B6770A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17FEBC-C154-4F05-9E64-453E68DFD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2796AC-A113-4EB1-A3E2-AFFCBBC1F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DC5A9C-A486-46DD-8409-4AA905EDB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98493E-81C6-4555-A762-2339E0DDF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B3A248-4A0C-4084-B91C-0EAAB83CF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90616D-1502-431F-998E-5F94E5C34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1A2130-22AD-4D74-BC23-5C45B29CE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25BF33-2AFC-4EF9-8567-8D94D5E01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7A9738-7049-4CAC-A11A-71AD3E9A8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A73C8-5E67-4802-9EC7-741A09245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834639-5B8F-47CD-9A71-EC449BACB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365977-9A26-4204-8BB1-1DF666A6F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DD094C-5B8C-40B2-AB29-F4D24A8C3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62C43C-77B3-44F5-AC7F-7DB69FDC3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22CA21-B970-436E-BFB3-5E0E04EDF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843F1F-959E-4C2C-B207-D1224045C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9A2D5D-F0E7-4E86-85D3-B7597745A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F46F2E-5605-46E7-B6A7-FB2606F86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41AAF2-C4DE-47F9-A3BB-D8FC2BEC8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B30294-1F64-48D7-BC03-F6A3E49CA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B10A-0C6F-454A-9738-8D111C46B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F9F45-F65E-4FE4-9A92-D95F87149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959EAF-34F7-4B88-B242-37B872D24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727E31-2E00-421A-AE38-50014B7D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25CA24-B314-4A2D-B263-511E2634E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0093DE-B627-4484-AEB7-ABE15BA68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534F0B-D129-4C52-95D4-76359C137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D3948-3B33-47B9-AD9C-B64AB5D57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72E59-F925-434C-B143-CADB92D57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2E8C0-3325-492B-B0D7-AE936DBEA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19AAD-06CB-4BCC-B1AA-8D90ACDC8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8871F-9457-46E0-8761-049D150B9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F2D69-005E-4F16-9B51-03169D857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42024-CB28-412E-A9DA-EBE1051F2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BA2DF-8220-4616-8F6C-67BC8BAAF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A4E1D-50AE-4EFF-B56F-1B3E3CC45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1DB4-4FFA-4DE3-8FCC-5EC8BF122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5272D-F408-4A37-BF84-6825C5B4A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B86BE-6244-4B9C-8C9E-CDAD378C2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BBFA5-1B9C-4687-8A79-6D28C2C53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CC4C2-6F37-40FC-8D8D-845A66238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18538-3C79-4AF1-B860-3A60F0D38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C2BB2-1B3B-4456-90A9-2213789DB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6FF2A-7195-4F79-82B3-4808968AE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54B09-DCC2-4373-A313-FEC228584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D4FD3-C856-47A5-A197-3FFB7F519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0E113-BE3F-4B37-83A3-ABAD149C7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E313-59DB-4681-90E5-E95617143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BB98C-75C0-4F07-A52C-B0B88CAA4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8EF51-1240-47CA-8AD2-1C856A351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71DF4-F5AA-42C7-9999-4B753499E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858B9-65BE-4BD3-A840-91E8DB6DA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C32CB-5FD6-4D9D-94E2-C6945665A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310CF-CDEC-43C4-91D8-E6CA7120E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86905-67B9-48EC-93A5-6F9CEC9AA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7C0C3-3CAC-445A-8EC6-E21E6C34E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EB889-17E5-4B84-8B46-7B305A1EA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DB1D01-CC6A-46B2-9723-351EB6638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9EAA-7EEF-4BB9-93BC-DAA2326A6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3E8EE2-4DBF-4A17-B00B-A600CD14C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7CE19C-7042-4C09-B7B4-3686BB27C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B78DF0-53E8-486E-9B94-21F76C994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7EA76B-1B93-4838-BF94-9DD120A6A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9FC734-1E8D-4DAA-83FE-1FF071044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FB5146-3EAB-4ADD-A461-27DF191CD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125968-9791-4F82-8A6C-45A2F7331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3B8EA7-90A9-436D-80DF-47A350D70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50E7B-BFC8-48FD-AC22-E5A26BDE6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9B825F-0C43-49D9-B630-149D6F154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790A-C57E-47C2-B3EF-AFF9529AF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6118D8-F3C0-4BA8-BDAF-477E8EE9A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6AF305-63F6-41CC-9CB8-3BA297F0F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9AA088-F98C-4895-AFD0-1012AF32E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913618-87F1-49C4-8545-79836683A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BCA83A-6F89-4EC3-B9F0-648D2AEAB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BAECB2-2152-4585-9F57-86D38201C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26E4D7-2B94-458C-8F72-FD0AA0157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B0C55D-4773-494D-B58E-382ED670F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C2227D-C2F5-465C-B25D-C372F9CE1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38D795-5634-4EBA-B7EC-F0AC89A3A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A69A-6659-4F02-8345-578D9969B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906D41-E5B4-4211-9DBC-7CA185B76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8D9CB1-EFAB-4933-849B-26EBEF7EA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D2165F-027C-4795-BF07-E8D192AD2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3C2144-F7C2-4EE8-9418-8BAC2C1DF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184CB1-3BC5-4BB3-B343-22B4CE749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B81E82-BFD7-4A70-95A9-6076281DF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01FCEF-3B05-4ED0-B0C4-260BE33AD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A4B1FF-D533-4A7A-952C-FE364994B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1AFF67-2D21-4F10-B776-6E5C87A79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5A47DE-6C88-4E89-A603-8822EBCFB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F509-1457-4872-943C-9AD307A51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45637C-402B-4960-B73F-AACFC317B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6D527F-1348-45CC-84B3-9B16499FF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B5BFFF-3A23-4733-9D1F-83AE21A5A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3859BB-6AFD-4FF4-A95C-127F6B740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D504E1-965B-4EEF-A8AC-6D86944A0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C66E4F-C7FB-433E-98A9-8402C4204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FEF643-F63E-4C28-9AE0-3DBE49DDA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BC2825-1A57-44FA-AFC8-7D3D57E52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3A0A91-D6F1-498E-91BB-5BDF8081F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486AD1-A2B7-4611-A213-0BB81CFA7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B872-E856-4E1A-8F4C-EF2238AC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5450F8-BB73-485D-B0DB-920CA346E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F25D53-0253-4A4C-9895-CB0ECCDCC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14F308-C15D-4576-8009-6CF38C3F7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6F3C42-8136-402B-AAA4-B384BA643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EC23E2-1640-4ECC-A858-D5C806614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C07763-A576-4999-A092-CFED22120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29B7DE-B31B-4A5C-8B7F-6172D9416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CD74A6-38BA-4FB4-93C3-2B545C9C5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92B241-BB13-4342-9F1F-17F212D21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F192AB-5256-4398-8B88-4CFC25015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CD0ED-54B1-41B7-B44F-B2A2CC4D1C3C}" type="slidenum">
              <a:rPr b="0" lang="fi-FI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F2B56-A8EB-4EBA-9600-CDCAF7E029E4}" type="slidenum">
              <a:rPr b="0" lang="fi-FI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88D1A-C366-4104-97ED-C791DB1BFB03}" type="slidenum">
              <a:rPr b="0" lang="fi-FI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Box 13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14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8B957-7170-46A1-9516-2E9E70084116}" type="slidenum">
              <a:rPr b="0" lang="fi-FI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34249-F055-4729-B20B-8173C6830507}" type="slidenum">
              <a:rPr b="0" lang="fi-FI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Box 10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Box 11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9E7BE-C18F-4665-BF90-B11A2CD2EB07}" type="slidenum">
              <a:rPr b="0" lang="fi-FI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7000D-1754-400F-A96F-F35A601874C3}" type="slidenum">
              <a:rPr b="0" lang="fi-FI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3A7AB-218E-41F5-8FC5-1C753C7A9760}" type="slidenum">
              <a:rPr b="0" lang="fi-FI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33B18-EB81-4266-897E-EE261834EFAA}" type="slidenum">
              <a:rPr b="0" lang="fi-FI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CA5F0-1DFD-41E0-B8DF-482897CD03F7}" type="slidenum">
              <a:rPr b="0" lang="fi-FI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74747-AFE5-43EA-ACE6-336B8C222B4B}" type="slidenum">
              <a:rPr b="0" lang="fi-FI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4C192-6848-4F87-B9AF-578A4F5F402D}" type="slidenum">
              <a:rPr b="0" lang="fi-FI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28F16-FD3E-4C8E-B708-54293D660404}" type="slidenum">
              <a:rPr b="0" lang="fi-FI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E701B-1C94-4BDF-932B-60B1494D16C6}" type="slidenum">
              <a:rPr b="0" lang="fi-FI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A1099-E296-47A2-9E8B-90CB1ADBE3D9}" type="slidenum">
              <a:rPr b="0" lang="fi-FI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3F43E-D212-4048-93CF-B430A6DE148D}" type="slidenum">
              <a:rPr b="0" lang="fi-FI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679C8-677B-48CF-8036-0A8E99051B47}" type="slidenum">
              <a:rPr b="0" lang="fi-FI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1909440" y="11556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i-FI" sz="3200" spc="-1" strike="noStrike">
                <a:solidFill>
                  <a:srgbClr val="262626"/>
                </a:solidFill>
                <a:latin typeface="Century Gothic"/>
              </a:rPr>
              <a:t>Esitysgrafiikka multimediakontekstissa, esim. mainoksen tai käsikirjoituksen esittely</a:t>
            </a:r>
            <a:br>
              <a:rPr sz="3200"/>
            </a:b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7" name=""/>
          <p:cNvSpPr txBox="1"/>
          <p:nvPr/>
        </p:nvSpPr>
        <p:spPr>
          <a:xfrm>
            <a:off x="1186920" y="2181240"/>
            <a:ext cx="362916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i-FI" sz="1800" spc="-1" strike="noStrike">
                <a:solidFill>
                  <a:srgbClr val="404040"/>
                </a:solidFill>
                <a:latin typeface="Century Gothic"/>
              </a:rPr>
              <a:t>Kokonaisuus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i-FI" sz="1400" spc="-1" strike="noStrike">
                <a:solidFill>
                  <a:srgbClr val="404040"/>
                </a:solidFill>
                <a:latin typeface="Century Gothic"/>
              </a:rPr>
              <a:t>Selkeys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i-FI" sz="1500" spc="-1" strike="noStrike">
                <a:solidFill>
                  <a:srgbClr val="404040"/>
                </a:solidFill>
                <a:latin typeface="Century Gothic"/>
              </a:rPr>
              <a:t>Helppo katsella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i-FI" sz="1500" spc="-1" strike="noStrike">
                <a:solidFill>
                  <a:srgbClr val="404040"/>
                </a:solidFill>
                <a:latin typeface="Century Gothic"/>
              </a:rPr>
              <a:t>Suunnittelumallin harkittu käyttö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i-FI" sz="1800" spc="-1" strike="noStrike">
                <a:solidFill>
                  <a:srgbClr val="404040"/>
                </a:solidFill>
                <a:latin typeface="Century Gothic"/>
              </a:rPr>
              <a:t>Teksti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i-FI" sz="1400" spc="-1" strike="noStrike">
                <a:solidFill>
                  <a:srgbClr val="404040"/>
                </a:solidFill>
                <a:latin typeface="Century Gothic"/>
              </a:rPr>
              <a:t>Riittävän suurta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i-FI" sz="1500" spc="-1" strike="noStrike">
                <a:solidFill>
                  <a:srgbClr val="404040"/>
                </a:solidFill>
                <a:latin typeface="Century Gothic"/>
              </a:rPr>
              <a:t>Yhtenäinen linja fonteissa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i-FI" sz="1500" spc="-1" strike="noStrike">
                <a:solidFill>
                  <a:srgbClr val="404040"/>
                </a:solidFill>
                <a:latin typeface="Century Gothic"/>
              </a:rPr>
              <a:t>Fontin tuettava sisältöä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8" name=""/>
          <p:cNvSpPr txBox="1"/>
          <p:nvPr/>
        </p:nvSpPr>
        <p:spPr>
          <a:xfrm>
            <a:off x="4932360" y="2215800"/>
            <a:ext cx="3860640" cy="44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i-FI" sz="1800" spc="-1" strike="noStrike">
                <a:solidFill>
                  <a:srgbClr val="404040"/>
                </a:solidFill>
                <a:latin typeface="Century Gothic"/>
              </a:rPr>
              <a:t>Kuv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i-FI" sz="1400" spc="-1" strike="noStrike">
                <a:solidFill>
                  <a:srgbClr val="404040"/>
                </a:solidFill>
                <a:latin typeface="Century Gothic"/>
              </a:rPr>
              <a:t>Tuettava sisältöä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i-FI" sz="1500" spc="-1" strike="noStrike">
                <a:solidFill>
                  <a:srgbClr val="404040"/>
                </a:solidFill>
                <a:latin typeface="Century Gothic"/>
              </a:rPr>
              <a:t>Valokuvat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i-FI" sz="1500" spc="-1" strike="noStrike">
                <a:solidFill>
                  <a:srgbClr val="404040"/>
                </a:solidFill>
                <a:latin typeface="Century Gothic"/>
              </a:rPr>
              <a:t>Piirrokset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i-FI" sz="1500" spc="-1" strike="noStrike">
                <a:solidFill>
                  <a:srgbClr val="404040"/>
                </a:solidFill>
                <a:latin typeface="Century Gothic"/>
              </a:rPr>
              <a:t>Kaaviot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i-FI" sz="1800" spc="-1" strike="noStrike">
                <a:solidFill>
                  <a:srgbClr val="404040"/>
                </a:solidFill>
                <a:latin typeface="Century Gothic"/>
              </a:rPr>
              <a:t>Tehostee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i-FI" sz="1400" spc="-1" strike="noStrike">
                <a:solidFill>
                  <a:srgbClr val="404040"/>
                </a:solidFill>
                <a:latin typeface="Century Gothic"/>
              </a:rPr>
              <a:t>Käytetään dian ja dian osioiden vaihtumiseen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i-FI" sz="1500" spc="-1" strike="noStrike">
                <a:solidFill>
                  <a:srgbClr val="404040"/>
                </a:solidFill>
                <a:latin typeface="Century Gothic"/>
              </a:rPr>
              <a:t>Animaatiot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i-FI" sz="1500" spc="-1" strike="noStrike">
                <a:solidFill>
                  <a:srgbClr val="404040"/>
                </a:solidFill>
                <a:latin typeface="Century Gothic"/>
              </a:rPr>
              <a:t>Video ja ääni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i-FI" sz="1500" spc="-1" strike="noStrike">
                <a:solidFill>
                  <a:srgbClr val="404040"/>
                </a:solidFill>
                <a:latin typeface="Century Gothic"/>
              </a:rPr>
              <a:t>Voit liittää tai upottaa materiaaliksi mitä tahansa tekemääsi multimediaa (flash, mp3, mp4, pdf, tekstitiedostot)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i-FI" sz="1800" spc="-1" strike="noStrike">
                <a:solidFill>
                  <a:srgbClr val="404040"/>
                </a:solidFill>
                <a:latin typeface="Century Gothic"/>
              </a:rPr>
              <a:t>Ohjeistus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i-FI" sz="1500" spc="-1" strike="noStrike">
                <a:solidFill>
                  <a:srgbClr val="404040"/>
                </a:solidFill>
                <a:latin typeface="Century Gothic"/>
              </a:rPr>
              <a:t>Ohjeistus opettajalta, varaa ohjausaika Sharepointista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6T12:58:37Z</dcterms:created>
  <dc:creator>sillhil</dc:creator>
  <dc:description/>
  <dc:language>en-US</dc:language>
  <cp:lastModifiedBy>HP-430-MJ</cp:lastModifiedBy>
  <dcterms:modified xsi:type="dcterms:W3CDTF">2016-02-07T14:46:03Z</dcterms:modified>
  <cp:revision>2</cp:revision>
  <dc:subject/>
  <dc:title>Esitysgrafiikka</dc:title>
</cp:coreProperties>
</file>